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8C1-914B-4C61-9278-2AF16039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D6BE-E787-464A-A468-360B0EB3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C160-5F50-44D0-9E8C-3A5B8CBA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13F0-9389-4DAB-86E1-DFA7A2AB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E746-CFE4-490C-8936-5721A987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429B-107A-4049-8727-5025B240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0AD5-A9DE-4D86-B363-EF32CAC1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196E-85E1-4B3C-914C-93249645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7FBF-8922-4498-81CA-55D115CE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9E52-1B01-4EB8-BEE3-98773478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4730-3220-4996-A83E-CDA58A5B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3F11-2831-45C5-A965-FD2398BF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FBA5-C876-434D-8735-6E11D09B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6AD1-ADD6-4FD9-B4BA-D9A025B1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5BB1-B1DA-415E-97C7-F23A4486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23A3-C425-410A-A199-0C627552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79CE-A58B-40DF-BEFE-1F297522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C70F-1F28-444C-8FBE-02E9C3C8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F550-BF96-4EF3-B522-0E33CEDD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912-6412-46AB-91DB-FE7302E0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055-A4F2-46B8-8E0D-071FF1CD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292B-C17B-44BB-8215-CF6D5EAA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E13-108F-4E57-87A7-D6FB2499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1779-27D5-4D0D-A301-B80D8C81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BBFC0-326E-4CE5-9797-AEFE8F6D07B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35759-A71E-4092-B3A6-F80AE38CEB2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63303-9DBB-4A6F-8A3A-1C194B86720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SimSu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C38D9-1A7C-4E50-9F35-6E24573E69C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sdmanuals.com/professional/pediatrics/endocrine-disorders-in-children/diabetes-in-children-and-adolescents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1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83" name="Picture 12" descr=""/>
            <p:cNvPicPr/>
            <p:nvPr/>
          </p:nvPicPr>
          <p:blipFill>
            <a:blip r:embed="rId1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Rounded Rectangle 9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4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3880" y="993600"/>
            <a:ext cx="7886880" cy="208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Calibri Light"/>
              </a:rPr>
              <a:t>Training Module CPG T1DM - Diagnosis, Risk Factors,             </a:t>
            </a:r>
            <a:br>
              <a:rPr sz="4000"/>
            </a:br>
            <a:r>
              <a:rPr b="1" lang="en-US" sz="4000" spc="-1" strike="noStrike">
                <a:solidFill>
                  <a:srgbClr val="3333ff"/>
                </a:solidFill>
                <a:latin typeface="Calibri Light"/>
              </a:rPr>
              <a:t>Co-Morbidities &amp; Treatment Goal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854440" y="4078080"/>
            <a:ext cx="565632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Dr. Fuziah Md. Z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Consultant Paediatric Endocrinologist, Hospital Putrajaya, Putrajay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Dr. Cheah Yee Ke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Consultant Paediatrician, Hospital Tuanku Ja’afar, 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Dr. Zahidah Mohd. Kasi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Paediatrician, Hospital Kajang, Selang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755640" y="2992320"/>
            <a:ext cx="207324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38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presenta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28560" y="1590480"/>
            <a:ext cx="788688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ically, T1DM children &amp; adolescents present with history of polyuria, polydipsia &amp; weight loss over 2 - 6 wee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of them can have rapid onset of symptoms within days &amp; present in diabetic ketoacidosis (DKA), while others can have a slower onset of symptoms over several mont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inical presentation of T1DM can vary from non-emergency to emergency situ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44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Non-emergency presenta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Recent onset of enuresis in previously toilet-trained child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Vaginal candidiasis especially in pre-pubertal gir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Chronic weight loss or failure to gain weight in growing child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Recurrent skin inf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50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Emergency presenta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8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Moderate to severe dehyd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Frequent vom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Abdominal p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ontinuing polyuria despite the presence of dehyd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Weight loss due to fluid loss, &amp; loss of muscle &amp; f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Acetone-smelling bre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Hyperventi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Decreased level of conscious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Hypoten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Sh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56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Diagnostic difficulties may lead to late diagnos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28560" y="1902960"/>
            <a:ext cx="788688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yperventilation during DKA may be misdiagnosed as pneumonia or asthm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bdominal pain associated with DKA can be mistaken as acute abdomen leading to unnecessary surgical referr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yuria &amp; enuresis may be misdiagnosed as a urinary tract infe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ydipsia may be thought to be psychogenic in orig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omiting may be misdiagnosed as gastroenteritis or sep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ired level of consciousness can be misdiagnosed as meningitis/encephal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herefore, healthcare providers should have a high index suspicion of diabetes mellitus/DKA when managing such sick child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62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266760"/>
            <a:ext cx="788688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28560" y="982800"/>
            <a:ext cx="788688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tics: the most susceptible haplotypes are the DRB1*0301- DQA1*0501-DQB1*0201 &amp; the DRB1*0405-DQA1*0301-DQB1 *0302, DRB1*0401-DQA1*0301-DQB*0302, &amp; DRB1*0402-DQA1*0301-DQB1*030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, 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ce of GAD antibody &amp;/or IA-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birth weight (&gt;4 kg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ly introduction of cow’s milk before 3 months of ag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pid growth within first 2 years of li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ovirus infecti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energy food intake especially disaccharides &amp; sucros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. Erlich H, et al. Diabetes. 2008;57(4):1084-1092; 11. Lambert AP,  et al. J Clin Endocrinol Metab.      2004;89(8):4037-4043; 12. Knip M, et al. Diabetes Care. 2010;33(6):1206-1212; 13. Harder T, et al. Am J Epidemiol. 2009;169(12):1428-1436, 14. Hyppönen E, et al. Diabetes Care. 2000;23(12):1755-1760, 15. EURODIAB Substudy 2 Study Group. Diabetes Care. 2002;25(10):1755-1760, 16. Yeung WC, et al. BMJ. 2011;342:d35, 17. Pundziute-Lyckå A, et al. Diabetes Care. 2004;27(12):2784-278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68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4428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isk factor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680" indent="-274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eastfeeding of any duratio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amp; vitamin D supplementation in early childhoo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8-1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possible protective factors against T1D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ernal pre-eclampsi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amp; childhood vaccinatio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not associated with T1D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8. Zipitis CS, et al. Arch Dis Child. 2008;93(6):512-5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9. Hyppönen E, et al. Lancet. 2001;358(9292):1500-150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. Henry EB, et al. Diabet Med. 2011;28(8):900-9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1. DeStefano F, et al. Pediatrics. 2001;108(6):E1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74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18960"/>
            <a:ext cx="78868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-morboditi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28560" y="1220400"/>
            <a:ext cx="78868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680" indent="-274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-morbidites are medical conditions that co-exist with T1D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s with T1DM have higher prevalence of autoimmune diseases compared with patients without diabete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evalence of high anti-thyroid peroxidase antibody (aTPO) &amp;/or anti-thyroglobulin antibody ranges between 4.5% &amp; 29.4%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3, 2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onger the duration of T1DM, the higher the tendencies of developing thyroid autoimmunity (p&lt;0.001)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ing of thyroid function by measurement of TSH &amp; aTPO antibody is recommended at the diagnosis of diabetes &amp; biennially thereafter in asymptomatic individuals without goitre or in the absence of thyroid autoantibodie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2. Kota SK, et al. Diabetes Metab Syndr. 2012;6(2):70-7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3. Shiva S, et al. Open J Immunol. 2013;3(1):37-4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4. Kordonouri O, et al. Diabetes Care. 2002;25(8):1346-13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80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409680"/>
            <a:ext cx="788688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-morboditie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28560" y="1383840"/>
            <a:ext cx="7886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eliac disease is mostly asymptomatic in patients with T1DM &amp; the disease can only be detected in these patients by serologic screening using anti-endomysium antibody &amp;/or tissue transglutaminase antibody, &amp; confirmatory diagnosis using intestinal biops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eliac disease prevalence is unknown in Malaysia &amp; therefore screening for the disease should be done in suspected c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adrenal insufficiency has also been found in T1DM with a prevalence of 0.7%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hough the prevalence is low, clinicians should be aware of the symptoms &amp; signs of adrenal insufficiency in patients with T1D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86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542880" y="2200320"/>
            <a:ext cx="81313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91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Treatment targets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  <a:ea typeface="SimSu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28560" y="1590480"/>
            <a:ext cx="788688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hievement of the ideal BG level (near physiological glucose contr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significant hypoglycaemia or recurrent DKA through self-monitoring of blood glucose (SMBG) &amp; optimal HbA1c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ence of hypoglycaemia unawar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 growth &amp;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 psychosocial development &amp; adjustment in dealing with a chronic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long-term diabetic com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90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able to diagnose type 1 diabetes mellitus (T1DM) confid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understand the risk factors of T1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aware of the medical conditions that coexist with T1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understand the treatment targets of T1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97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98520"/>
            <a:ext cx="78868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HbA1c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28560" y="1355400"/>
            <a:ext cx="78868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ycated haemoglobin (HbA1/HbA1c) reflects the levels of glycaemia over the preceding 4 - 12 week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bA1c monitoring has been shown to be the most useful measure in evaluating metabolic control &amp; predicts long-term microvascular &amp; macrovascular outco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patient should have a minimum of 1 measurement of HbA1c per year, ideally 3 to 6 measurements per year depending on age &amp; degree of glycaemic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bA1c may be affected by a variety of genetic, haematologic &amp; illness-related factors such as haemoglobinopathy, certain anaemia &amp; disorder associated with accelerated red cell turnover such as malaria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7. World Health Organization. Geneva: WHO; 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203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646200"/>
            <a:ext cx="78868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HbA1c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7" name="Content Placeholder -1" descr=""/>
          <p:cNvPicPr/>
          <p:nvPr/>
        </p:nvPicPr>
        <p:blipFill>
          <a:blip r:embed="rId2"/>
          <a:stretch/>
        </p:blipFill>
        <p:spPr>
          <a:xfrm>
            <a:off x="628560" y="1798560"/>
            <a:ext cx="7886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209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0600" y="651960"/>
            <a:ext cx="78865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bA1c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28560" y="21650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bA1c expressed in IFCC values (mmol/mol) can be converted to DCCT values (%) by using the following equ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939960" y="3624120"/>
            <a:ext cx="7462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216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CCT &amp; IFCC Conversion Tables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1643040" y="1609560"/>
            <a:ext cx="59799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222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rget indicators fo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ycaemic control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608040" y="1690560"/>
            <a:ext cx="7958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228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266760"/>
            <a:ext cx="788688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rget indicators fo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ycaemic contro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604800" y="1379520"/>
            <a:ext cx="7962840" cy="1154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3"/>
          <a:stretch/>
        </p:blipFill>
        <p:spPr>
          <a:xfrm>
            <a:off x="606600" y="2502000"/>
            <a:ext cx="796104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235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410760"/>
            <a:ext cx="788688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Growth &amp; Pubert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28560" y="1260360"/>
            <a:ext cx="788688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1DM is a chronic disease of childhood &amp; it potentially affects the growth, onset of puberty &amp; pubertal development of the patient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8, 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1DM patients require monitoring of their growth &amp; physical development. This can be achieved by plotting anthropometric measurements using appropriate percentile charts &amp; mid-parental hei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a significant impairment in growth during puberty in young patients with T1DM &amp; microalbuminuria which could be due to suboptimal glycaemic control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ertal onset is delayed in children &amp; adolescents with less well-regulated T1DM &amp; it increases with higher HbA1c level &amp; lower BMI standard deviation score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8. Rohrer T, et al. Eur J Endocrinol. 2007;157((5):):647-65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9. Elamin A, et al. J Diabetes Complications. 2006;20(4):252-25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0. Marcovecchio ML, et al. Pediatr Diabetes. 2014;15(4):303-3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241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428760" y="2371680"/>
            <a:ext cx="830880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246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658440"/>
            <a:ext cx="78868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28560" y="1626840"/>
            <a:ext cx="788688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agnosis of DM in children &amp; adolescents should be made based on clinical features &amp; biochemical criteria (WHO criteria*) &amp; autoantibodies testing should be done to confirm the diagnosis of T1D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ing of thyroid function &amp; measurement of antithyroid peroxidase antibody should be done at diagnosis of T1D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patients with T1DM should aim to achieve glycaemic targets to maintain normal growth &amp; pubertal development, while avoiding severe hypoglycaem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ents with T1DM &amp; hypoglycaemia unawareness should perform more frequent self-monitoring of B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11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252" name="Picture 12" descr=""/>
            <p:cNvPicPr/>
            <p:nvPr/>
          </p:nvPicPr>
          <p:blipFill>
            <a:blip r:embed="rId1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ounded Rectangle 9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14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ff"/>
                </a:solidFill>
                <a:latin typeface="Calibri Light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96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28560" y="1603080"/>
            <a:ext cx="788688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1 diabetes mellitus (T1DM) is the most common type of diabetes mellitus in children &amp; adolesc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1DM is a chronic disease which is associated with various complications including retinopathy, nephropathy, neuropathy &amp; cardiovascular morbid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urate classification of diabetes &amp; proper management of these children to achieve glycaemic target is of utmost impor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02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31560"/>
            <a:ext cx="788688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28560" y="1044720"/>
            <a:ext cx="7886880" cy="56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DM is primarily due to pancreatic islet β-cell destruction leading to severe insulin deficiency &amp; manifested by low or undetectable plasma concentration of C-peptid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kers of the immune-mediated β-cell destruction process include glutamic acid decarboxylase (GAD) antibody, insulin autoantibodies (IAA), anti-islet antibody (ICA), protein thyrosine phosphatase antibody (ICA512 or IA2A) &amp; zinc transporter 8 (ZnT8)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than 90% of patients with newly diagnosed T1DM have more than one of these autoantibodies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s with false negative antibodies can be due to diminished titre over the course of the disease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. Brook CGD, et al. Sussex: Wiley-Blackwell;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. Chiang JL, et al. Diabetes Care. 2014;37(7):2034-205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08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66760"/>
            <a:ext cx="788688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agnos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6840" y="1260360"/>
            <a:ext cx="8217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agnosis of DM should be made based on the presence or absence of symptoms &amp; biochemical criteria according to WHO Diagnostic Criteria (1999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7. World Health Organization. Geneva: WHO; 200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581040" y="2714760"/>
            <a:ext cx="80802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15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266400"/>
            <a:ext cx="788688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agnos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28560" y="1179360"/>
            <a:ext cx="788688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s with T1DM can present acutely with severe symptoms, &amp; frequently with ketoacidosis. The diagnosis can be confirmed quickly with blood glucose (BG) value without waiting for another day as urgent treatment is nee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presence of mild symptoms, the diagnosis of diabetes should never be made on a single abnormal BG value. Oral glucose tolerance test (OGTT) is rarely requi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ole of HbA1c alone in the diagnosis of diabetes mellitus remains unclear &amp; diabetes cannot be excluded when the value is &lt;6.5%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. International Society for Pediatric and Adolescent Diabetes (ISPAD). Oxford: Wiley  Blackwell;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21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agnos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28560" y="1358640"/>
            <a:ext cx="7886880" cy="48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680" indent="-274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investigations that reflect β-cell function &amp; immune-mediated β-cell destruction can be used to identify the aetiology &amp; type of diabetes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support for the diagnosis of T1DM include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604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engXian"/>
              </a:rPr>
              <a:t>low or undetectable C-peptide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604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engXian"/>
              </a:rPr>
              <a:t>presence of diabetes-associated autoantibodies (GAD/IAA/ ICA512/IA2/ZnT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9. Diabetes in Children and Adolescents. (Available at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www.msdmanuals.com/professional/pediatrics/endocrine-disorders-in-children/diabetes-in-children-and-adolescent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27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371520" y="2009880"/>
            <a:ext cx="84009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3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32" name="Picture 10" descr=""/>
            <p:cNvPicPr/>
            <p:nvPr/>
          </p:nvPicPr>
          <p:blipFill>
            <a:blip r:embed="rId1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12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  <a:ea typeface="SimSun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  <a:ea typeface="SimSun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Clinical features of T1DM in children &amp; adolescent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2680" y="1690560"/>
          <a:ext cx="8377200" cy="4273560"/>
        </p:xfrm>
        <a:graphic>
          <a:graphicData uri="http://schemas.openxmlformats.org/drawingml/2006/table">
            <a:tbl>
              <a:tblPr/>
              <a:tblGrid>
                <a:gridCol w="2873160"/>
                <a:gridCol w="5504040"/>
              </a:tblGrid>
              <a:tr h="657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Age of ons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Six months to young adulth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4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inical pres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ost often acute, rapid onset of sympt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5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utoimmun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5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Ket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Body habi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sually lean but can be overweight following population 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7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canthosis nigric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Typically ab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Amin</dc:creator>
  <dc:description/>
  <dc:language>en-US</dc:language>
  <cp:lastModifiedBy>DrAmin</cp:lastModifiedBy>
  <dcterms:modified xsi:type="dcterms:W3CDTF">2016-12-28T01:16:44Z</dcterms:modified>
  <cp:revision>4</cp:revision>
  <dc:subject/>
  <dc:title>Training Module CPG T1DM - Diagnosis, Risk Factors,              Co-Morbidities &amp; Treatment Goals</dc:title>
</cp:coreProperties>
</file>